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99DA-90A6-41DC-AA96-BBC736236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29C2-73B3-49FB-A78F-2D29EB88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8C91-E1DD-4E88-B8FE-A8BF7A8A1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2CBB-87CF-4166-AF15-E9C03C08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8DAA-974E-4623-9066-6CA9575E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1F22-C3BE-4D30-BD4E-A6E8925D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999C-2989-48E8-B30D-065FBF54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E813-62C2-4083-A211-B751BB79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AC33-A163-4733-9B68-B1AB3C91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1458-B538-41D3-BA22-8A27FB0D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1F78-0C04-4B6A-AECE-A7EC3AB1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788D-6D9C-4EE6-915D-A83630BC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21AE-2C97-40EB-B041-277F0B979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0055188" descr=""/>
          <p:cNvPicPr/>
          <p:nvPr/>
        </p:nvPicPr>
        <p:blipFill>
          <a:blip r:embed="rId1"/>
          <a:stretch/>
        </p:blipFill>
        <p:spPr>
          <a:xfrm>
            <a:off x="0" y="0"/>
            <a:ext cx="5443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351320" y="0"/>
            <a:ext cx="55314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عالوا إلى الرب يا مثقل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أعباءِ هذه الحيا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عالوا ولا تقفوا يائسي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عند يسوع النجا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*تعالوا إلى الرب يا خاطئ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فقلب يسوع رحيم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غفور يرحب بالتائب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يمحو جميع الذنو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0034529" descr=""/>
          <p:cNvPicPr/>
          <p:nvPr/>
        </p:nvPicPr>
        <p:blipFill>
          <a:blip r:embed="rId1"/>
          <a:stretch/>
        </p:blipFill>
        <p:spPr>
          <a:xfrm>
            <a:off x="0" y="0"/>
            <a:ext cx="4630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488480" y="247680"/>
            <a:ext cx="5200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عالوا إلى الرب يا مثقل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بأعباءِ هذه الحيا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عالوا ولا تقفوا يائسين 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فعند يسوع النجا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5562720"/>
            <a:ext cx="426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عود إليك رحي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أجل الخرا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بذلت دماء فأن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حبيب الشفي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13760" y="2514600"/>
            <a:ext cx="5308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يُرَنَّمُ باسمك عند الشرو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وعند الضحى والغرو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أنت الإله الغفور الرحي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لكل أثيمٍ يتو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فيا رب أنت لكل خرو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02:10Z</dcterms:created>
  <dc:creator>USER</dc:creator>
  <dc:description/>
  <dc:language>en-US</dc:language>
  <cp:lastModifiedBy>USER</cp:lastModifiedBy>
  <dcterms:modified xsi:type="dcterms:W3CDTF">2002-10-30T16:05:47Z</dcterms:modified>
  <cp:revision>2</cp:revision>
  <dc:subject/>
  <dc:title>PowerPoint Presentation</dc:title>
</cp:coreProperties>
</file>